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B146-0610-46DF-ABA3-787D037C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1BA9-45E0-43F8-AF82-C258C3266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493-E6AB-42B3-AE6F-82FBCAD1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8E5-B39C-46DC-8C37-9AFFC3D1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05A-92D1-413E-B350-544A34DA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1AE-25EC-4770-B3EE-F7579DEA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0077-87C8-44CD-8BBA-B742CB7F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CDF0-421E-4C1E-863E-0464A87A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18D6-3C32-48B6-8F28-DE5DBFEC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F5E5-1A89-4259-90F8-28BEFC00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B835-8ABE-4B23-97CB-B67CAD08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72BE-C352-4219-BCA9-14A64673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499C-9DC1-4B81-AE31-4A6589C3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949-8EB5-419B-A756-63DEB9A5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F15-AF3B-4769-B23F-08F50D45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DAE5-1A3A-4BFD-BE36-3EBEBC38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5107-CA91-4611-A1DF-6349B5DE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D43F-56CE-43A7-8C74-AA8A84DF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AFF4-DC51-4A17-99F1-30FD3D62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43C-12CD-4141-BB7A-005D5B21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813-0D09-49B5-B6E9-3FD94292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83F-28FB-441A-8185-4D904B08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14E-4F70-419C-AA4A-5F611397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99E-C8DA-4199-ADEB-E711D611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0A5-AC38-435E-ADE8-2F3238C8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152-0AEC-4BBA-9973-47F5D15F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)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FEFF-4DFF-43C9-8925-F3B453276CB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(c) 2015 SAGE Publicati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7C68-D008-457C-B8D6-ADEFF1054D9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875800" cy="274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Footer Placeholder 2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254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2514240"/>
            <a:ext cx="82296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omestic Policy Options (continued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ciliatory Op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egoti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ncessionary Option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cial Refor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-66600" y="165240"/>
            <a:ext cx="9502560" cy="2230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2209680"/>
            <a:ext cx="8229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ternal Threats to the Early Republ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mestic Threats to the Early Republ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dern Precursors to Homeland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3124080" y="641664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-66600" y="208080"/>
            <a:ext cx="9502560" cy="2498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0880" y="274320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External Threats to the Early Republ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rontier Confli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ritish Incurs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litary Campaig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Footer Placeholder 2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-66600" y="244440"/>
            <a:ext cx="9502560" cy="249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2590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Domestic Threats to the Early Republ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iskey Rebell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bor-Related Disco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deological and Racial Disco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ti-Subversion Law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3124080" y="641664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-66600" y="244440"/>
            <a:ext cx="9502560" cy="2498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Modern Precursors to Homeland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ld War and Civil Defense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M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mestic Disturban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Footer Placeholder 2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Foundations of Homeland Security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3124080" y="641664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298440" y="317520"/>
            <a:ext cx="851688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01680" y="1752480"/>
            <a:ext cx="854064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ad00"/>
                </a:solidFill>
                <a:latin typeface="Book Antiqua"/>
              </a:rPr>
              <a:t>Policy and History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ad00"/>
                </a:solidFill>
                <a:latin typeface="Book Antiqua"/>
              </a:rPr>
              <a:t>Defining Homeland Security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Footer Placeholder 2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odern Era of Homeland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ptual Foundations: Central Attributes of Homeland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Homeland Security Environment: A Dynamic Constru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New Focus: Th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Quadrennial Homeland Security Review Repo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3124080" y="6416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940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04920" y="18288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Modern Era of Homeland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w Office of Homeland Secu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actment of USA PATRIOT Act of 200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ecutive Order 1322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land Security Presidential Directi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land Security Act of 200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416640"/>
            <a:ext cx="3733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7200" y="-109440"/>
            <a:ext cx="8229600" cy="218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Conceptual Foundation: Central Attributes of Homeland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411120"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Terrorist Thre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411120"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Federal Bureaucra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411120"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te and Local Agen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411120"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llaboration on Conceptual Foundations for Comprehensive Homeland Secu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-109440"/>
            <a:ext cx="8229600" cy="218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205704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The Homeland Security Environment: A Dynamic Concep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levance to Domestic Secu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volving and Dynamic Concep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w Terrorist Thre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HS Conceptual Framewor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416640"/>
            <a:ext cx="32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7200" y="-109440"/>
            <a:ext cx="8229600" cy="2187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205704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d00"/>
                </a:solidFill>
                <a:latin typeface="Book Antiqua"/>
              </a:rPr>
              <a:t>A New Focus: The </a:t>
            </a:r>
            <a:r>
              <a:rPr b="0" i="1" lang="en-US" sz="2800" spc="-1" strike="noStrike">
                <a:solidFill>
                  <a:srgbClr val="f0ad00"/>
                </a:solidFill>
                <a:latin typeface="Book Antiqua"/>
              </a:rPr>
              <a:t>Quadrennial Homeland Security Review Repo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ansion and Consolidation of Homeland Security Concep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cumentary Acknowledgement of Evolution of Concep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mprehensive “Homeland Security Enterprise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41664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mestic Policy Op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hanced Secu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galistic Op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lligen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aw Enforce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national Law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Footer Placeholder 2"/>
          <p:cNvSpPr/>
          <p:nvPr/>
        </p:nvSpPr>
        <p:spPr>
          <a:xfrm>
            <a:off x="3276720" y="6324480"/>
            <a:ext cx="3276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artin, Understanding Homeland Securit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© 2015 SAGE Publicati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8:52:59Z</dcterms:created>
  <dc:creator>gmartin</dc:creator>
  <dc:description/>
  <dc:language>en-US</dc:language>
  <cp:lastModifiedBy>Julie Griffin</cp:lastModifiedBy>
  <dcterms:modified xsi:type="dcterms:W3CDTF">2014-07-01T00:16:27Z</dcterms:modified>
  <cp:revision>132</cp:revision>
  <dc:subject/>
  <dc:title>Slide 1</dc:title>
</cp:coreProperties>
</file>